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gif" ContentType="image/gif"/>
  <Override PartName="/ppt/media/image14.gif" ContentType="image/gif"/>
  <Override PartName="/ppt/media/image9.gif" ContentType="image/gif"/>
  <Override PartName="/ppt/media/image1.jpeg" ContentType="image/jpeg"/>
  <Override PartName="/ppt/media/image2.wmf" ContentType="image/x-wmf"/>
  <Override PartName="/ppt/media/image4.png" ContentType="image/png"/>
  <Override PartName="/ppt/media/image5.gif" ContentType="image/gif"/>
  <Override PartName="/ppt/media/image10.gif" ContentType="image/gif"/>
  <Override PartName="/ppt/media/image6.jpeg" ContentType="image/jpeg"/>
  <Override PartName="/ppt/media/image15.gif" ContentType="image/gif"/>
  <Override PartName="/ppt/media/image7.jpeg" ContentType="image/jpeg"/>
  <Override PartName="/ppt/media/image8.gif" ContentType="image/gif"/>
  <Override PartName="/ppt/media/image13.gif" ContentType="image/gif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34B1-8851-476C-B658-143E6C2E2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poi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“what are some animals that could move seed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poi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eeds give us new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fer often to their fill-in-the-blank worksheet; having them fill it out along with yo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irst part of a plant, that we’re going to talk about today, is a plant’s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ullet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oo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ullet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ullet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fer often to their fill-in-the-blank worksheet; having them fill it out along with yo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poi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“who can tell me what brought the water and food into the stem, that we just talked ab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m al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poi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 stem ev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poi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fer often to their fill-in-the-blank worksheet; having them fill it out along with yo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poi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de is the actual leaf par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have real leaf for vis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tiole is: The part that joins the leaf of a plant to the main ste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how on vis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poi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dash 1 on bullet poi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dash 2 on bullet poi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fer often to their fill-in-the-blank worksheet; having them fill it out along with yo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all say Photosynthesi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-synth-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peat until children can say reasonably w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sis is the process that a plant uses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ake in carbon dioxide (everyone say “carbon dioxide”), a green coloring called chlorophyll (everyone say “chlorophyll”), nutrients from soil, and they all mix with sunlight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ho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s allows plants of every shape and size to grow and be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fer often to their fill-in-the-blank worksheet; having them fill it out along with yo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llows plants to eventually make more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more plants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ing poll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n tell me what pollination i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moving of the pollen from the anther to the stig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helps fertilize the flower and then makes more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n tell me what flowers attract?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fer often to their fill-in-the-blank worksheet; having them fill it out along with yo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uit of a flower i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poi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ries and protect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“what other things, like the strawberries on this slide, are fruit?” (acorns, kiwi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fer often to their fill-in-the-blank worksheet; having them fill it out along with yo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831-B7E4-42FF-96DB-CFCDB50A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E3DD-7ED8-40FF-9F52-50CBBA60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82B-5841-4595-985B-3E1E8A68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995-B44E-4392-A685-0264DA65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3160-DEFD-46CB-9A8E-1E0A0025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0DFA-EAD4-400C-A662-412446DD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9C06-2470-466B-BECF-31E48EC3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5CF4-B457-4458-B2D3-1BD1AD26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F97D-A8B9-43E7-94C7-208EE1A4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7A06-49E3-4F11-BA1B-A3C5842B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5EA1-34CB-4F69-BAAE-73548D38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89E-6BCA-4DD9-8973-B8FEE6A3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8FFA-40F0-4DA7-BDCD-35324137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18CB-8DAC-4659-BA3F-420EAFF0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D57F-D43C-4EAC-A302-C7E63B1F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30A2-F44A-49C2-96F2-01CB7E55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F39F-490D-4AD5-9F83-EE77BE0B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7FA0-F3BD-49CC-B83A-D7C41534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C4C-F972-473B-98D2-50A79362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1B4-FCF5-49BB-BDB9-BF144CF5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380-EA60-4AE9-8BD8-664F534C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ECD-3333-4AE3-A89D-72947BC0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1EB-675F-4ABE-BB9F-32283EE1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ABF-BA7B-43FB-A7B7-99F78593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BF6F-5C57-44F2-8799-58F7C8586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1561-EB9E-47FB-BDA4-1149F1C0F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rbanext.uiuc.edu/gpe/index.html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66"/>
                </a:solidFill>
                <a:latin typeface="Tahoma"/>
              </a:rPr>
              <a:t>How Plants Grow</a:t>
            </a:r>
            <a:endParaRPr b="0" lang="en-US" sz="9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Ms. Hud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ffff66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Some, pictures, animations, and facts from: http://www.urbanext.uiuc.edu/gpe/case1/c1facts3e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eeds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95320" y="243828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eds are a plant's way of getting from one area to another by either wind, water or animal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eed allows the plant to reproduce after it is fert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eds= new pl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40100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1676520"/>
            <a:ext cx="84582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Growing Our Own Plants</a:t>
            </a:r>
            <a:endParaRPr b="0" lang="en-US" sz="6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tep One: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pace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ake sure plants have the room to gr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ake sure plants have a big enough po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867280" y="2286000"/>
            <a:ext cx="18367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tep Two: temperature 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lants need to be in the right temp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Know where your plant is f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ost plants like cooler tempera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52480" y="2666880"/>
            <a:ext cx="13082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tep Three: light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lants need good light to make food and gr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Vary light depending on pl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ut closer or farter away from a window for less or more l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791320" y="2666880"/>
            <a:ext cx="16095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tep Four: water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lants need water to make food and gr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oo much water= dead pl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Not enough water= dead pl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Keep plants soil moi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tep Five: air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lants take in carbon dioxide to make foo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arbon dioxide= what people breath o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lants release oxygen- what people breath 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510160" y="2816280"/>
            <a:ext cx="26431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tep Six: nutrients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right amount of nutrients can be already in so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You can use fertilizer: helps above ground growth, production of flowers and seeds, fight off disease, and keep plants stro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047600" y="308628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tep Seven: time</a:t>
            </a: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inal step to growing plan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Give the plant time to gro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Different plants will take grow at different rat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86400" y="2590920"/>
            <a:ext cx="23526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omputer Activity: The Great Escape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95320" y="2438280"/>
            <a:ext cx="4038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Go to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urbanext.uiuc.edu/gpe/index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lick on the mysteries link at the bottom of the p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And then click on “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What are the parts of plants?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58671" t="0" r="28000" b="3281"/>
          <a:stretch/>
        </p:blipFill>
        <p:spPr>
          <a:xfrm>
            <a:off x="2133720" y="3429000"/>
            <a:ext cx="16002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Parts of a Plant</a:t>
            </a:r>
            <a:endParaRPr b="0" lang="en-US" sz="6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Tahoma"/>
              </a:rPr>
              <a:t>Basic parts of plants</a:t>
            </a:r>
            <a:endParaRPr b="0" lang="en-US" sz="5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roo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ste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flo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frui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see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Roots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9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rovide suppor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anchor the plant in so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ake up water and nutrients; which are in the so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ater and nutrients are needed for the plant to gr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72200" y="1905120"/>
            <a:ext cx="220032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tems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22860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arry water and food through the pl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arries water and nutrients to leav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upports the whole pl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23880" y="2057400"/>
            <a:ext cx="15861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Leaves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91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ade of the blade and the petio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Leaves make the food for the plant by photosynthe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Leav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- made to catch l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- have small openings catch and release water and a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29200" y="2286000"/>
            <a:ext cx="30430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Photosynthesis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114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arbon dioxide and water mix with the green coloring (chlorophy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Nutrients come through roots with 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And all mixes with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08628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Flowers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Important for making see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Attract pollinators; helps fertilize the flower which makes new flow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01600" y="1981080"/>
            <a:ext cx="274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Fruit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art of plant that holds the see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arries and protects the s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03884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2:39:55Z</dcterms:created>
  <dc:creator>Chrissy</dc:creator>
  <dc:description/>
  <dc:language>en-US</dc:language>
  <cp:lastModifiedBy>Chrissy</cp:lastModifiedBy>
  <dcterms:modified xsi:type="dcterms:W3CDTF">2008-04-03T03:14:09Z</dcterms:modified>
  <cp:revision>19</cp:revision>
  <dc:subject/>
  <dc:title>Slide 1</dc:title>
</cp:coreProperties>
</file>